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9–2011 National Academy Found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5DE0-1853-47EA-931C-590F26F003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9454-FB7A-4098-91C6-8090B42672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014A-C941-430E-9579-7CAB76A77C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F5AA-07C7-4317-87AC-F5B925F229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5FBD-563F-4DDF-9C72-022176399C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F93C-A84A-4989-8628-F8C43A633F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D5CC-2798-461A-8919-72FCB468EA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A3DD-245F-4ABB-8344-053EC6B589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0A93-6B7F-4BFF-A5DD-253032116C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2CA5-B661-4C94-99AE-156C7E2371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1DBC-7175-49D1-839B-092A03F20B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4F25-67D8-43B2-AC9B-4BE4113CDE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17DF-05FF-4D0D-BE39-3CE7FA2E8D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BF1F-32E2-4601-9398-37FFF2CE14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33520" y="4191120"/>
            <a:ext cx="5790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0" y="8685360"/>
            <a:ext cx="505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–2011 National Academy Foundation. All rights reserved.</a:t>
            </a:r>
            <a:endParaRPr b="0" i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ED18-75C5-48D1-81FE-A26B07D26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8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484B-81FF-4310-BD0A-5278776E3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53B48-DE90-4514-AE0F-D0DAE1E15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7ABD-5E29-4E31-ABAC-95BEEA239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-7668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C4AB-AEAA-48CF-97C2-58BB9D2FE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78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3712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78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6F00-FC78-4EC7-82F1-F5D711B63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24F3-8A42-4089-969A-8B5F9147F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B97B-380C-4B3B-805C-689B36B3A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-7668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2DE4C-A6B1-4A35-95D4-8F0406F8A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B3B2-D0FD-4803-904B-253FF8A44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8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4628-4D40-4AC3-BD31-6B968E95A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3712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8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8C41-929F-4FD2-BACB-19B8E8EE3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2b5a9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2b5a9c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2b5a9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2b5a9c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6960" y="61718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b5a9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2E11-1792-414D-A8D4-EF99219E921E}" type="slidenum">
              <a:rPr b="0" lang="en-US" sz="1000" spc="-1" strike="noStrike">
                <a:solidFill>
                  <a:srgbClr val="2b5a9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1" descr="PPT footer"/>
          <p:cNvPicPr/>
          <p:nvPr/>
        </p:nvPicPr>
        <p:blipFill>
          <a:blip r:embed="rId2"/>
          <a:stretch/>
        </p:blipFill>
        <p:spPr>
          <a:xfrm>
            <a:off x="0" y="6583320"/>
            <a:ext cx="9144000" cy="2746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914400"/>
            <a:ext cx="9144000" cy="219240"/>
          </a:xfrm>
          <a:prstGeom prst="rect">
            <a:avLst/>
          </a:prstGeom>
          <a:gradFill rotWithShape="0">
            <a:gsLst>
              <a:gs pos="0">
                <a:srgbClr val="335c9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PPT footer"/>
          <p:cNvPicPr/>
          <p:nvPr/>
        </p:nvPicPr>
        <p:blipFill>
          <a:blip r:embed="rId2"/>
          <a:stretch/>
        </p:blipFill>
        <p:spPr>
          <a:xfrm>
            <a:off x="0" y="6583320"/>
            <a:ext cx="9144000" cy="2746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0" y="1676520"/>
            <a:ext cx="9144000" cy="777600"/>
          </a:xfrm>
          <a:prstGeom prst="rect">
            <a:avLst/>
          </a:prstGeom>
          <a:gradFill rotWithShape="0">
            <a:gsLst>
              <a:gs pos="0">
                <a:srgbClr val="335c9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1240" y="6653160"/>
            <a:ext cx="3557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8–2011 National Academy Foundation. All rights reserved.</a:t>
            </a:r>
            <a:endParaRPr b="0" i="1" lang="en-US" sz="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2b5a9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2b5a9c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2b5a9c"/>
              </a:buClr>
              <a:buSzPct val="5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2b5a9c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SzPct val="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74320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nit 4, Lesson 9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Keeping You and Your Computer Safe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762120" y="380880"/>
            <a:ext cx="7391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OIT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uter Systems </a:t>
            </a:r>
            <a:br>
              <a:rPr sz="3200"/>
            </a:br>
            <a:endParaRPr b="0" i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5760" y="0"/>
            <a:ext cx="874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You can minimize the risk of ESD damage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5102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tore and ship computer components in antistatic bags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ear an antistatic wrist strap when handling components. 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Remove components from the bag slowly. 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aintain humidity levels between 70% and 90%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ver touch the electrical contacts on components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27" name="Picture 6" descr="C:\Users\Lee\Desktop\Pearson\July\July9\sys9\images\image12.jpg"/>
          <p:cNvPicPr/>
          <p:nvPr/>
        </p:nvPicPr>
        <p:blipFill>
          <a:blip r:embed="rId1"/>
          <a:stretch/>
        </p:blipFill>
        <p:spPr>
          <a:xfrm>
            <a:off x="5756400" y="1844640"/>
            <a:ext cx="2943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1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Damage from EMI is recoverable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9000" y="1255680"/>
            <a:ext cx="50068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Common sources of EMI: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High-speed digital circuits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Radio transmitters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Cordless telephones and pagers 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ower line intercoms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lectric motors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luorescent lights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twork cabling too close to other devices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lectric space heaters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20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03360" y="5689440"/>
            <a:ext cx="40114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s it a good idea to use your cell phone in a data center?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1" name="Picture 7" descr="C:\Users\Lee\Desktop\Pearson\July\July9\sys9\images\image13.jpg"/>
          <p:cNvPicPr/>
          <p:nvPr/>
        </p:nvPicPr>
        <p:blipFill>
          <a:blip r:embed="rId1"/>
          <a:stretch/>
        </p:blipFill>
        <p:spPr>
          <a:xfrm>
            <a:off x="5251320" y="1467000"/>
            <a:ext cx="3372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Preventing EMI is simple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30372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Don’t put the computer close to a motor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Keep computers and cables away from magnets or transformers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15880" y="4429080"/>
            <a:ext cx="33163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an you think of things that have magnet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r transformers?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5" name="Picture 7" descr="C:\Users\Lee\Desktop\Pearson\July\July9\sys9\images\image14.jpg"/>
          <p:cNvPicPr/>
          <p:nvPr/>
        </p:nvPicPr>
        <p:blipFill>
          <a:blip r:embed="rId1"/>
          <a:stretch/>
        </p:blipFill>
        <p:spPr>
          <a:xfrm>
            <a:off x="4613400" y="1420920"/>
            <a:ext cx="40384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10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lways follow best practices for safety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699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 computer’s safety documentation contains more information: 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tup precautions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afe cleaning instructions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ire hazards during usage 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lectrocution hazards during usage 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Refer to the documentation for electrical specifications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38" name="Picture 0" descr="C:\Users\Lee\Desktop\Pearson\July\July9\sys9\images\image15.jpg"/>
          <p:cNvPicPr/>
          <p:nvPr/>
        </p:nvPicPr>
        <p:blipFill>
          <a:blip r:embed="rId1"/>
          <a:stretch/>
        </p:blipFill>
        <p:spPr>
          <a:xfrm>
            <a:off x="5056200" y="1378080"/>
            <a:ext cx="3762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7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Working with computers is relatively safe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300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ake precautions to minimize risk.  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Understand and follow safety procedures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onitors and power supplies are the most hazardous devices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93" name="Picture 1024" descr="C:\Users\Lee\Desktop\Pearson\July\July9\sys9\images\image1.jpg"/>
          <p:cNvPicPr/>
          <p:nvPr/>
        </p:nvPicPr>
        <p:blipFill>
          <a:blip r:embed="rId1"/>
          <a:stretch/>
        </p:blipFill>
        <p:spPr>
          <a:xfrm>
            <a:off x="3492360" y="1479600"/>
            <a:ext cx="54104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ESD can be shocking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93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SD is the rapid flow of static electricity from one object to another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nergy is released in the form of a spark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SD is costly and dangerous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SD can interrupt power to a system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96" name="Picture 6" descr="C:\Users\Lee\Desktop\Pearson\July\July9\sys9\images\image2.jpg"/>
          <p:cNvPicPr/>
          <p:nvPr/>
        </p:nvPicPr>
        <p:blipFill>
          <a:blip r:embed="rId1"/>
          <a:stretch/>
        </p:blipFill>
        <p:spPr>
          <a:xfrm>
            <a:off x="3506760" y="1494000"/>
            <a:ext cx="541008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Protect yourself from ESD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80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Don’t become a conductor of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lectricity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Damage to components can occur at low voltages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49280" y="4983120"/>
            <a:ext cx="42829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an you remember a time when you felt an electric shock? What do you think caused it?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0" name="Picture 7" descr="C:\Users\Lee\Desktop\Pearson\July\July9\sys9\images\image3.jpg"/>
          <p:cNvPicPr/>
          <p:nvPr/>
        </p:nvPicPr>
        <p:blipFill>
          <a:blip r:embed="rId1"/>
          <a:stretch/>
        </p:blipFill>
        <p:spPr>
          <a:xfrm>
            <a:off x="5097600" y="1258920"/>
            <a:ext cx="38289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570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Ground yourself for safety’s sake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6120" y="1211040"/>
            <a:ext cx="5151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Ground is neutral: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ot positively or negatively charged with electricity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onnected to the earth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Grounding creates: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n easy path for electrical current to follow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he same electrical potential between two objects 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he best sources for ground: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AC outlet 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etal chassis of a PC that is connected to a known groun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580000" y="3305160"/>
            <a:ext cx="3230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hat do you think this universal symbol for ground is based on?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4" name="Picture 7" descr="C:\Users\Lee\Desktop\Pearson\July\July9\sys9\images\image4.jpg"/>
          <p:cNvPicPr/>
          <p:nvPr/>
        </p:nvPicPr>
        <p:blipFill>
          <a:blip r:embed="rId1"/>
          <a:stretch/>
        </p:blipFill>
        <p:spPr>
          <a:xfrm>
            <a:off x="6084720" y="1623960"/>
            <a:ext cx="22860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Wear an antistatic wrist strap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2181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11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Ground yourself by wearing an antistatic wrist strap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243360" indent="-243360">
              <a:spcBef>
                <a:spcPts val="11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ttach the clip to a good ground source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243360" indent="-243360">
              <a:spcBef>
                <a:spcPts val="1199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ver wear an antistatic wrist strap when working with monitors or power supplies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243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503280" y="5689440"/>
            <a:ext cx="81532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hy do you think you should never wear an antistatic wrist strap when working with monitors or power supplies?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8" name="Picture 8" descr="C:\Users\Lee\Desktop\Pearson\July\July9\sys9\images\image5.jpg"/>
          <p:cNvPicPr/>
          <p:nvPr/>
        </p:nvPicPr>
        <p:blipFill>
          <a:blip r:embed="rId1"/>
          <a:stretch/>
        </p:blipFill>
        <p:spPr>
          <a:xfrm>
            <a:off x="4840200" y="3436920"/>
            <a:ext cx="943200" cy="942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C:\Users\Lee\Desktop\Pearson\July\July9\sys9\images\image6.jpg"/>
          <p:cNvPicPr/>
          <p:nvPr/>
        </p:nvPicPr>
        <p:blipFill>
          <a:blip r:embed="rId2"/>
          <a:stretch/>
        </p:blipFill>
        <p:spPr>
          <a:xfrm>
            <a:off x="6249960" y="1743120"/>
            <a:ext cx="2390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597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Antistatic mats slow the flow of static electricity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4410000"/>
            <a:ext cx="8382240" cy="19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ntistatic mats use electrical resistance to slow the flow of static electricity across the surface of the mat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Be sure the mat is grounded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Use antistatic spray on the floor around the work area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844560" y="3336840"/>
            <a:ext cx="35244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ree-layered antistatic mats reduce ESD.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Picture 9" descr="C:\Users\Lee\Desktop\Pearson\July\July9\sys9\images\image7.jpg"/>
          <p:cNvPicPr/>
          <p:nvPr/>
        </p:nvPicPr>
        <p:blipFill>
          <a:blip r:embed="rId1"/>
          <a:stretch/>
        </p:blipFill>
        <p:spPr>
          <a:xfrm>
            <a:off x="1143000" y="1515960"/>
            <a:ext cx="3200400" cy="1505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C:\Users\Lee\Desktop\Pearson\July\July9\sys9\images\image8.jpg"/>
          <p:cNvPicPr/>
          <p:nvPr/>
        </p:nvPicPr>
        <p:blipFill>
          <a:blip r:embed="rId2"/>
          <a:stretch/>
        </p:blipFill>
        <p:spPr>
          <a:xfrm>
            <a:off x="5119560" y="1573200"/>
            <a:ext cx="325764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13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CRT monitors can be dangerous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78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414"/>
              </a:spcAft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ver open a monitor while wearing a grounding wrist strap.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414"/>
              </a:spcAft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 CRT will implode if broken. 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414"/>
              </a:spcAft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If a monitor needs to be repaired:</a:t>
            </a:r>
            <a:endParaRPr b="0" lang="en-US" sz="2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374"/>
              </a:spcAft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Replace it. 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374"/>
              </a:spcAft>
              <a:buClr>
                <a:srgbClr val="2b5a9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Hire an experienced monitor repair technician.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398920" y="3649680"/>
            <a:ext cx="33102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 CRT stores electricity (up to 30,000 volts) even when unplugged.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9" name="Picture 0" descr="C:\Users\Lee\Desktop\Pearson\July\July9\sys9\images\image9.jpg"/>
          <p:cNvPicPr/>
          <p:nvPr/>
        </p:nvPicPr>
        <p:blipFill>
          <a:blip r:embed="rId1"/>
          <a:stretch/>
        </p:blipFill>
        <p:spPr>
          <a:xfrm>
            <a:off x="6067440" y="1504800"/>
            <a:ext cx="197172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Power supplies retain a dangerous charge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1" name="Rectangle 47"/>
          <p:cNvSpPr/>
          <p:nvPr/>
        </p:nvSpPr>
        <p:spPr>
          <a:xfrm>
            <a:off x="380880" y="1619280"/>
            <a:ext cx="43801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89"/>
              </a:spcAft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he power supply is extremely dangerous.</a:t>
            </a:r>
            <a:endParaRPr b="0" i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89"/>
              </a:spcAft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Even when unplugged, the capacitor retains a potentially lethal electrical charge.</a:t>
            </a:r>
            <a:endParaRPr b="0" i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89"/>
              </a:spcAft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 power supply is an FRU:</a:t>
            </a:r>
            <a:endParaRPr b="0" i="1" lang="en-US" sz="2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24"/>
              </a:spcAft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  <a:ea typeface="ＭＳ Ｐゴシック"/>
              </a:rPr>
              <a:t>There are no serviceable parts inside. 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24"/>
              </a:spcAft>
              <a:buClr>
                <a:srgbClr val="2b5a9c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  <a:ea typeface="ＭＳ Ｐゴシック"/>
              </a:rPr>
              <a:t>Replace a failed unit with a new one.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Text Box 51"/>
          <p:cNvSpPr/>
          <p:nvPr/>
        </p:nvSpPr>
        <p:spPr>
          <a:xfrm>
            <a:off x="152280" y="5562720"/>
            <a:ext cx="43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3" name="Picture 0" descr="C:\Users\Lee\Desktop\Pearson\July\July9\sys9\images\image10.jpg"/>
          <p:cNvPicPr/>
          <p:nvPr/>
        </p:nvPicPr>
        <p:blipFill>
          <a:blip r:embed="rId1"/>
          <a:stretch/>
        </p:blipFill>
        <p:spPr>
          <a:xfrm>
            <a:off x="5670720" y="1766880"/>
            <a:ext cx="2504880" cy="2190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" descr="C:\Users\Lee\Desktop\Pearson\July\July9\sys9\images\image11.jpg"/>
          <p:cNvPicPr/>
          <p:nvPr/>
        </p:nvPicPr>
        <p:blipFill>
          <a:blip r:embed="rId2"/>
          <a:stretch/>
        </p:blipFill>
        <p:spPr>
          <a:xfrm>
            <a:off x="5573880" y="4341960"/>
            <a:ext cx="25524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7:08:03Z</dcterms:created>
  <dc:creator>arothstein</dc:creator>
  <dc:description/>
  <dc:language>en-US</dc:language>
  <cp:lastModifiedBy>cynth</cp:lastModifiedBy>
  <dcterms:modified xsi:type="dcterms:W3CDTF">2011-04-27T17:26:25Z</dcterms:modified>
  <cp:revision>448</cp:revision>
  <dc:subject/>
  <dc:title>Slide 1</dc:title>
</cp:coreProperties>
</file>